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2D385-41E6-4D71-B17C-06CD91431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E0CFD-E278-4CD7-9990-07B1AA1B1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1E4D3-8535-48EE-BA9E-FC0804035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A461D-660D-4C08-8212-4DC03938A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CD526-C3DA-4604-9889-2EF5F5C15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B51B0-E8BC-4B03-8F84-4458583C1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D2DB0-0B47-44B8-968B-66BB478FD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AA856-FF92-435F-92BB-422E66B51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99E68-84CA-480D-868B-7D860F22E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95C07-1C55-4611-A942-518AB2923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533DF-ADD2-42F1-A198-6EEFBB292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EE9F8-4A7D-4B8A-A606-E4B41F38A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DC8FD-DE05-42F5-B259-CCF68419FA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4554360" y="3043080"/>
            <a:ext cx="582480" cy="331560"/>
            <a:chOff x="4554360" y="3043080"/>
            <a:chExt cx="582480" cy="331560"/>
          </a:xfrm>
        </p:grpSpPr>
        <p:sp>
          <p:nvSpPr>
            <p:cNvPr id="42" name=""/>
            <p:cNvSpPr/>
            <p:nvPr/>
          </p:nvSpPr>
          <p:spPr>
            <a:xfrm>
              <a:off x="4589640" y="3207240"/>
              <a:ext cx="167760" cy="1508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4942440" y="3207240"/>
              <a:ext cx="168840" cy="1508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4554360" y="3226320"/>
              <a:ext cx="568080" cy="658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118120" y="3283200"/>
              <a:ext cx="18720" cy="46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636440" y="3123360"/>
              <a:ext cx="72360" cy="1238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776840" y="3153600"/>
              <a:ext cx="111960" cy="777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554360" y="3106440"/>
              <a:ext cx="39960" cy="1641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54360" y="3259440"/>
              <a:ext cx="25560" cy="770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776840" y="3092040"/>
              <a:ext cx="20880" cy="2581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67920" y="3092040"/>
              <a:ext cx="20880" cy="2581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rot="16200000">
              <a:off x="4823280" y="3302280"/>
              <a:ext cx="21240" cy="1234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978080" y="3043080"/>
              <a:ext cx="152280" cy="199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054760" y="3054960"/>
              <a:ext cx="63360" cy="892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rot="16200000">
              <a:off x="4868280" y="3062160"/>
              <a:ext cx="21240" cy="37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rot="16200000">
              <a:off x="4779360" y="3062160"/>
              <a:ext cx="21240" cy="37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1835280" y="1692360"/>
            <a:ext cx="32986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286160" y="3368520"/>
            <a:ext cx="3273480" cy="12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390920" y="2603520"/>
            <a:ext cx="109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68760" y="4089240"/>
            <a:ext cx="76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FINI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4775040" y="1763280"/>
            <a:ext cx="133200" cy="630360"/>
            <a:chOff x="4775040" y="1763280"/>
            <a:chExt cx="133200" cy="630360"/>
          </a:xfrm>
        </p:grpSpPr>
        <p:sp>
          <p:nvSpPr>
            <p:cNvPr id="62" name=""/>
            <p:cNvSpPr/>
            <p:nvPr/>
          </p:nvSpPr>
          <p:spPr>
            <a:xfrm flipH="1" rot="5400000">
              <a:off x="4707360" y="1830600"/>
              <a:ext cx="268200" cy="133200"/>
            </a:xfrm>
            <a:prstGeom prst="triangle">
              <a:avLst>
                <a:gd name="adj" fmla="val 50000"/>
              </a:avLst>
            </a:prstGeom>
            <a:solidFill>
              <a:srgbClr val="3333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flipV="1">
              <a:off x="4775040" y="1763640"/>
              <a:ext cx="0" cy="63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" name=""/>
          <p:cNvGrpSpPr/>
          <p:nvPr/>
        </p:nvGrpSpPr>
        <p:grpSpPr>
          <a:xfrm>
            <a:off x="4809600" y="3452400"/>
            <a:ext cx="183960" cy="630360"/>
            <a:chOff x="4809600" y="3452400"/>
            <a:chExt cx="183960" cy="630360"/>
          </a:xfrm>
        </p:grpSpPr>
        <p:sp>
          <p:nvSpPr>
            <p:cNvPr id="65" name=""/>
            <p:cNvSpPr/>
            <p:nvPr/>
          </p:nvSpPr>
          <p:spPr>
            <a:xfrm flipH="1" rot="5400000">
              <a:off x="4767120" y="3494520"/>
              <a:ext cx="268200" cy="183960"/>
            </a:xfrm>
            <a:prstGeom prst="triangle">
              <a:avLst>
                <a:gd name="adj" fmla="val 50000"/>
              </a:avLst>
            </a:prstGeom>
            <a:solidFill>
              <a:srgbClr val="3333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V="1">
              <a:off x="4809960" y="3452760"/>
              <a:ext cx="0" cy="63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" name=""/>
          <p:cNvSpPr/>
          <p:nvPr/>
        </p:nvSpPr>
        <p:spPr>
          <a:xfrm>
            <a:off x="3835440" y="539640"/>
            <a:ext cx="146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SOURCE ARR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413240" y="2433600"/>
            <a:ext cx="87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Sans Unicode"/>
              </a:rPr>
              <a:t>SHOT POI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899320" y="3782880"/>
            <a:ext cx="942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Sans Unicode"/>
              </a:rPr>
              <a:t>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510000" y="4368960"/>
            <a:ext cx="29192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         </a:t>
            </a: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V.P.  DRAG LENGT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Last pad start to first pad fini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3 sweeps, 4.5 meter move 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216080" y="5378400"/>
            <a:ext cx="7308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Lucida Sans Unicode"/>
              </a:rPr>
              <a:t>18 meter drag length from start position of second vibes pad to finishing pad position of the first vib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43040" y="1009800"/>
            <a:ext cx="8007120" cy="5105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3817800" y="1353960"/>
            <a:ext cx="582480" cy="331560"/>
            <a:chOff x="3817800" y="1353960"/>
            <a:chExt cx="582480" cy="331560"/>
          </a:xfrm>
        </p:grpSpPr>
        <p:sp>
          <p:nvSpPr>
            <p:cNvPr id="74" name=""/>
            <p:cNvSpPr/>
            <p:nvPr/>
          </p:nvSpPr>
          <p:spPr>
            <a:xfrm>
              <a:off x="3853080" y="1518120"/>
              <a:ext cx="167760" cy="1508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205880" y="1518120"/>
              <a:ext cx="168840" cy="1508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817800" y="1537200"/>
              <a:ext cx="568080" cy="658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381560" y="1594080"/>
              <a:ext cx="18720" cy="46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899880" y="1434240"/>
              <a:ext cx="72360" cy="1238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040280" y="1464480"/>
              <a:ext cx="111960" cy="777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817800" y="1417320"/>
              <a:ext cx="39960" cy="1641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817800" y="1570320"/>
              <a:ext cx="25560" cy="770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040280" y="1402920"/>
              <a:ext cx="20880" cy="2581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131360" y="1402920"/>
              <a:ext cx="20880" cy="2581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6200000">
              <a:off x="4086720" y="1613160"/>
              <a:ext cx="21240" cy="1234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241520" y="1353960"/>
              <a:ext cx="152280" cy="199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318200" y="1365840"/>
              <a:ext cx="63360" cy="892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rot="16200000">
              <a:off x="4131720" y="1373040"/>
              <a:ext cx="21240" cy="37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rot="16200000">
              <a:off x="4042800" y="1373040"/>
              <a:ext cx="21240" cy="37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" name=""/>
          <p:cNvGrpSpPr/>
          <p:nvPr/>
        </p:nvGrpSpPr>
        <p:grpSpPr>
          <a:xfrm>
            <a:off x="4491000" y="1366920"/>
            <a:ext cx="582120" cy="331200"/>
            <a:chOff x="4491000" y="1366920"/>
            <a:chExt cx="582120" cy="331200"/>
          </a:xfrm>
        </p:grpSpPr>
        <p:sp>
          <p:nvSpPr>
            <p:cNvPr id="90" name=""/>
            <p:cNvSpPr/>
            <p:nvPr/>
          </p:nvSpPr>
          <p:spPr>
            <a:xfrm>
              <a:off x="4526280" y="1530720"/>
              <a:ext cx="167760" cy="1508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78720" y="1530720"/>
              <a:ext cx="168840" cy="1508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491000" y="1549800"/>
              <a:ext cx="567720" cy="655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054400" y="1606680"/>
              <a:ext cx="18720" cy="46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573080" y="1446840"/>
              <a:ext cx="72000" cy="1238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713120" y="1477440"/>
              <a:ext cx="111960" cy="777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491000" y="1430280"/>
              <a:ext cx="39960" cy="1641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491000" y="1583280"/>
              <a:ext cx="25560" cy="770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713120" y="1415880"/>
              <a:ext cx="20880" cy="2577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804560" y="1415880"/>
              <a:ext cx="20880" cy="2577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rot="16200000">
              <a:off x="4759920" y="1625760"/>
              <a:ext cx="21240" cy="1234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14360" y="1366920"/>
              <a:ext cx="151920" cy="1994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991040" y="1378800"/>
              <a:ext cx="63360" cy="892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rot="16200000">
              <a:off x="4804920" y="1386000"/>
              <a:ext cx="21240" cy="37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16200000">
              <a:off x="4716000" y="1386000"/>
              <a:ext cx="21240" cy="37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5189400" y="3017880"/>
            <a:ext cx="582480" cy="331560"/>
            <a:chOff x="5189400" y="3017880"/>
            <a:chExt cx="582480" cy="331560"/>
          </a:xfrm>
        </p:grpSpPr>
        <p:sp>
          <p:nvSpPr>
            <p:cNvPr id="106" name=""/>
            <p:cNvSpPr/>
            <p:nvPr/>
          </p:nvSpPr>
          <p:spPr>
            <a:xfrm>
              <a:off x="5224680" y="3182040"/>
              <a:ext cx="167760" cy="1508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577480" y="3182040"/>
              <a:ext cx="168840" cy="1508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189400" y="3201120"/>
              <a:ext cx="568080" cy="658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753160" y="3258000"/>
              <a:ext cx="18720" cy="46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271480" y="3098160"/>
              <a:ext cx="72360" cy="1238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411880" y="3128400"/>
              <a:ext cx="111960" cy="777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189400" y="3081240"/>
              <a:ext cx="39960" cy="1641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189400" y="3234240"/>
              <a:ext cx="25560" cy="770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411880" y="3066840"/>
              <a:ext cx="20880" cy="2581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502960" y="3066840"/>
              <a:ext cx="20880" cy="2581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rot="16200000">
              <a:off x="5458320" y="3277080"/>
              <a:ext cx="21240" cy="1234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613120" y="3017880"/>
              <a:ext cx="152280" cy="199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689800" y="3029760"/>
              <a:ext cx="63360" cy="892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rot="16200000">
              <a:off x="5503320" y="3036960"/>
              <a:ext cx="21240" cy="37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16200000">
              <a:off x="5414400" y="3036960"/>
              <a:ext cx="21240" cy="37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4073400" y="1066680"/>
            <a:ext cx="141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 Unicode"/>
              </a:rPr>
              <a:t>TWO VIB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2T22:27:39Z</dcterms:created>
  <dc:creator>Javier Guevara.</dc:creator>
  <dc:description/>
  <dc:language>en-US</dc:language>
  <cp:lastModifiedBy>Darryl</cp:lastModifiedBy>
  <dcterms:modified xsi:type="dcterms:W3CDTF">2004-06-21T14:32:18Z</dcterms:modified>
  <cp:revision>28</cp:revision>
  <dc:subject/>
  <dc:title>No Slide Title</dc:title>
</cp:coreProperties>
</file>