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E785-4220-4954-8D24-62243DE1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3AA3-1137-4EA6-91CE-09F73397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5F54-FB32-4B14-9D9A-943991B8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E91-4B6A-4D77-9D0D-7BD4093B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6B44-FB89-407E-950D-0E7B7724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C838-7E3C-44FE-9008-4887DDF8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12E-527F-463D-A19E-C55861214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8535-07FB-4347-9E1E-054F7D91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89C-95DD-4BA4-824A-FEE2E965C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935-1849-4CF5-BA01-B2E2327E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1088-A521-422F-9BF2-87D8772A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E5F3-4732-4D2D-8578-543EA438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1BE6-2FA2-48F9-91C3-2B7A50865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554360" y="3043080"/>
            <a:ext cx="582480" cy="331560"/>
            <a:chOff x="4554360" y="3043080"/>
            <a:chExt cx="582480" cy="331560"/>
          </a:xfrm>
        </p:grpSpPr>
        <p:sp>
          <p:nvSpPr>
            <p:cNvPr id="42" name=""/>
            <p:cNvSpPr/>
            <p:nvPr/>
          </p:nvSpPr>
          <p:spPr>
            <a:xfrm>
              <a:off x="4589640" y="32072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942440" y="32072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54360" y="32263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118120" y="32832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636440" y="31233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776840" y="31536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54360" y="31064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54360" y="32594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77684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67920" y="30920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4823280" y="33022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8080" y="30430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054760" y="30549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rot="16200000">
              <a:off x="486828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rot="16200000">
              <a:off x="4779360" y="30621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835280" y="1692360"/>
            <a:ext cx="329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86160" y="3368520"/>
            <a:ext cx="3273480" cy="1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603520"/>
            <a:ext cx="109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68760" y="4089240"/>
            <a:ext cx="7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775040" y="1763280"/>
            <a:ext cx="133200" cy="630360"/>
            <a:chOff x="4775040" y="1763280"/>
            <a:chExt cx="133200" cy="630360"/>
          </a:xfrm>
        </p:grpSpPr>
        <p:sp>
          <p:nvSpPr>
            <p:cNvPr id="62" name=""/>
            <p:cNvSpPr/>
            <p:nvPr/>
          </p:nvSpPr>
          <p:spPr>
            <a:xfrm flipH="1" rot="5400000">
              <a:off x="4707360" y="1830600"/>
              <a:ext cx="268200" cy="13320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" bIns="-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775040" y="176364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809600" y="3452400"/>
            <a:ext cx="183960" cy="630360"/>
            <a:chOff x="4809600" y="3452400"/>
            <a:chExt cx="183960" cy="630360"/>
          </a:xfrm>
        </p:grpSpPr>
        <p:sp>
          <p:nvSpPr>
            <p:cNvPr id="65" name=""/>
            <p:cNvSpPr/>
            <p:nvPr/>
          </p:nvSpPr>
          <p:spPr>
            <a:xfrm flipH="1" rot="5400000">
              <a:off x="4767120" y="3494520"/>
              <a:ext cx="268200" cy="18396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4809960" y="3452760"/>
              <a:ext cx="0" cy="63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3835440" y="539640"/>
            <a:ext cx="146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SOURCE ARR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13240" y="2433600"/>
            <a:ext cx="87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SHOT POI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99320" y="3782880"/>
            <a:ext cx="942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Lucida Sans Unicode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10000" y="4368960"/>
            <a:ext cx="291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V.P.  DRAG LENG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Last pad start to first pad fin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 sweeps, 4.5 meter move 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6080" y="5378400"/>
            <a:ext cx="7308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Lucida Sans Unicode"/>
              </a:rPr>
              <a:t>18 meter drag length from start position of second vibes pad to finishing pad position of the first vi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43040" y="1009800"/>
            <a:ext cx="8007120" cy="510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817800" y="1353960"/>
            <a:ext cx="582480" cy="331560"/>
            <a:chOff x="3817800" y="1353960"/>
            <a:chExt cx="582480" cy="331560"/>
          </a:xfrm>
        </p:grpSpPr>
        <p:sp>
          <p:nvSpPr>
            <p:cNvPr id="74" name=""/>
            <p:cNvSpPr/>
            <p:nvPr/>
          </p:nvSpPr>
          <p:spPr>
            <a:xfrm>
              <a:off x="3853080" y="15181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05880" y="15181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17800" y="153720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381560" y="15940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9880" y="143424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40280" y="146448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17800" y="141732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17800" y="157032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4028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131360" y="140292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6200000">
              <a:off x="4086720" y="16131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241520" y="135396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18200" y="136584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413172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4042800" y="137304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491000" y="1366920"/>
            <a:ext cx="582120" cy="331200"/>
            <a:chOff x="4491000" y="1366920"/>
            <a:chExt cx="582120" cy="331200"/>
          </a:xfrm>
        </p:grpSpPr>
        <p:sp>
          <p:nvSpPr>
            <p:cNvPr id="90" name=""/>
            <p:cNvSpPr/>
            <p:nvPr/>
          </p:nvSpPr>
          <p:spPr>
            <a:xfrm>
              <a:off x="4526280" y="153072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78720" y="153072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491000" y="1549800"/>
              <a:ext cx="567720" cy="655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054400" y="160668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73080" y="1446840"/>
              <a:ext cx="7200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13120" y="147744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491000" y="143028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491000" y="158328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1312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04560" y="1415880"/>
              <a:ext cx="20880" cy="25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6200000">
              <a:off x="4759920" y="162576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14360" y="1366920"/>
              <a:ext cx="151920" cy="1994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91040" y="137880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16200000">
              <a:off x="480492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716000" y="138600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189400" y="3017880"/>
            <a:ext cx="582480" cy="331560"/>
            <a:chOff x="5189400" y="3017880"/>
            <a:chExt cx="582480" cy="331560"/>
          </a:xfrm>
        </p:grpSpPr>
        <p:sp>
          <p:nvSpPr>
            <p:cNvPr id="106" name=""/>
            <p:cNvSpPr/>
            <p:nvPr/>
          </p:nvSpPr>
          <p:spPr>
            <a:xfrm>
              <a:off x="5224680" y="3182040"/>
              <a:ext cx="16776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77480" y="3182040"/>
              <a:ext cx="168840" cy="1508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3201120"/>
              <a:ext cx="568080" cy="658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753160" y="3258000"/>
              <a:ext cx="18720" cy="46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1480" y="3098160"/>
              <a:ext cx="72360" cy="1238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11880" y="3128400"/>
              <a:ext cx="111960" cy="77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081240"/>
              <a:ext cx="39960" cy="164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189400" y="3234240"/>
              <a:ext cx="25560" cy="770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1188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02960" y="3066840"/>
              <a:ext cx="20880" cy="258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5458320" y="3277080"/>
              <a:ext cx="21240" cy="1234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613120" y="3017880"/>
              <a:ext cx="152280" cy="199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689800" y="3029760"/>
              <a:ext cx="63360" cy="89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550332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5414400" y="3036960"/>
              <a:ext cx="21240" cy="378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073400" y="1066680"/>
            <a:ext cx="141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Sans Unicode"/>
              </a:rPr>
              <a:t>TWO VIB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2T22:27:39Z</dcterms:created>
  <dc:creator>Javier Guevara.</dc:creator>
  <dc:description/>
  <dc:language>en-US</dc:language>
  <cp:lastModifiedBy>Darryl</cp:lastModifiedBy>
  <dcterms:modified xsi:type="dcterms:W3CDTF">2004-06-21T14:32:18Z</dcterms:modified>
  <cp:revision>28</cp:revision>
  <dc:subject/>
  <dc:title>No Slide Title</dc:title>
</cp:coreProperties>
</file>