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2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B01-4DC8-4B21-B692-A2DAA38B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634-2A37-4A0C-80AE-EB87CED8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982-6131-415A-B7E4-1E7C210F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EDC-C58F-42A9-AE90-2DC0D3BF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3F0-80C6-4A55-84E4-3FFFC5E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FDF-1562-42B7-BCFC-FC4D0EFB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B68-7896-40F6-B545-E767D001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312-016F-4BD2-9AD5-02E62DE4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D64-EBCE-43F3-8181-D35B66B4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C43-A030-4D2C-A807-69B7E7B6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257-C6EA-41AF-BF4A-F3A7FB46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F87-FA9F-47FB-8AB4-20DAADA6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FC15-7D9C-4F88-B6F1-906EA5187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2160" y="3678120"/>
            <a:ext cx="582120" cy="331560"/>
            <a:chOff x="3602160" y="3678120"/>
            <a:chExt cx="582120" cy="331560"/>
          </a:xfrm>
        </p:grpSpPr>
        <p:sp>
          <p:nvSpPr>
            <p:cNvPr id="42" name=""/>
            <p:cNvSpPr/>
            <p:nvPr/>
          </p:nvSpPr>
          <p:spPr>
            <a:xfrm>
              <a:off x="3637440" y="384228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89880" y="384228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02160" y="386136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65560" y="391824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84240" y="375840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24280" y="378864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02160" y="374148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02160" y="389448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24280" y="37270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15720" y="37270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3871080" y="393732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25520" y="367812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02200" y="369000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3916080" y="36972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3827160" y="36972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933480" y="220032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1436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98800" y="1436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27160" y="981000"/>
            <a:ext cx="298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6 Meters Between Vibes, 27m from pad of vibe 1 to pad of vib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67120" y="404172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74680" y="1561680"/>
            <a:ext cx="26766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5440" y="311148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08200" y="49528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73600" y="2271240"/>
            <a:ext cx="133200" cy="630360"/>
            <a:chOff x="3873600" y="2271240"/>
            <a:chExt cx="133200" cy="630360"/>
          </a:xfrm>
        </p:grpSpPr>
        <p:sp>
          <p:nvSpPr>
            <p:cNvPr id="66" name=""/>
            <p:cNvSpPr/>
            <p:nvPr/>
          </p:nvSpPr>
          <p:spPr>
            <a:xfrm flipH="1" rot="5400000">
              <a:off x="3805920" y="233856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873600" y="227160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334200" y="4087440"/>
            <a:ext cx="133200" cy="630360"/>
            <a:chOff x="6334200" y="4087440"/>
            <a:chExt cx="133200" cy="630360"/>
          </a:xfrm>
        </p:grpSpPr>
        <p:sp>
          <p:nvSpPr>
            <p:cNvPr id="69" name=""/>
            <p:cNvSpPr/>
            <p:nvPr/>
          </p:nvSpPr>
          <p:spPr>
            <a:xfrm flipH="1" rot="5400000">
              <a:off x="6266520" y="415476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334200" y="408780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789360" y="298440"/>
            <a:ext cx="187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REGIONAL PARMA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11440" y="294156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 #1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00840" y="476100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#1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194520" y="3681360"/>
            <a:ext cx="582120" cy="331560"/>
            <a:chOff x="6194520" y="3681360"/>
            <a:chExt cx="582120" cy="331560"/>
          </a:xfrm>
        </p:grpSpPr>
        <p:sp>
          <p:nvSpPr>
            <p:cNvPr id="76" name=""/>
            <p:cNvSpPr/>
            <p:nvPr/>
          </p:nvSpPr>
          <p:spPr>
            <a:xfrm>
              <a:off x="6229800" y="384552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82240" y="384552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94520" y="386460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57920" y="392148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6600" y="376164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16640" y="379188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94520" y="374472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94520" y="389772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6640" y="373032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08080" y="373032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6463440" y="394056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7880" y="368136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94560" y="369324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6508440" y="370044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6419520" y="370044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960800" y="3678120"/>
            <a:ext cx="582480" cy="331560"/>
            <a:chOff x="4960800" y="3678120"/>
            <a:chExt cx="582480" cy="331560"/>
          </a:xfrm>
        </p:grpSpPr>
        <p:sp>
          <p:nvSpPr>
            <p:cNvPr id="92" name=""/>
            <p:cNvSpPr/>
            <p:nvPr/>
          </p:nvSpPr>
          <p:spPr>
            <a:xfrm>
              <a:off x="4996080" y="384228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48880" y="384228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60800" y="3861360"/>
              <a:ext cx="56808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24560" y="391824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2880" y="375840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83280" y="378864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60800" y="374148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60800" y="389448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83280" y="37270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4360" y="37270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5229720" y="393732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84520" y="3678120"/>
              <a:ext cx="15228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61200" y="369000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5274720" y="36972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5185800" y="36972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871560" y="1874880"/>
            <a:ext cx="582120" cy="331560"/>
            <a:chOff x="871560" y="1874880"/>
            <a:chExt cx="582120" cy="331560"/>
          </a:xfrm>
        </p:grpSpPr>
        <p:sp>
          <p:nvSpPr>
            <p:cNvPr id="108" name=""/>
            <p:cNvSpPr/>
            <p:nvPr/>
          </p:nvSpPr>
          <p:spPr>
            <a:xfrm>
              <a:off x="906840" y="20390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9280" y="20390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1560" y="205812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34960" y="21150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53640" y="195516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93680" y="19854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71560" y="19382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1560" y="20912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368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8512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140480" y="21340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4920" y="187488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600" y="18867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118548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109656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421000" y="1874880"/>
            <a:ext cx="582120" cy="331560"/>
            <a:chOff x="2421000" y="1874880"/>
            <a:chExt cx="582120" cy="331560"/>
          </a:xfrm>
        </p:grpSpPr>
        <p:sp>
          <p:nvSpPr>
            <p:cNvPr id="124" name=""/>
            <p:cNvSpPr/>
            <p:nvPr/>
          </p:nvSpPr>
          <p:spPr>
            <a:xfrm>
              <a:off x="2456280" y="20390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08720" y="20390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1000" y="205812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84400" y="21150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3080" y="195516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43120" y="19854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21000" y="19382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21000" y="20912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4312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3456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2689920" y="21340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44360" y="187488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21040" y="18867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273492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264600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589200" y="1874880"/>
            <a:ext cx="582480" cy="331560"/>
            <a:chOff x="3589200" y="1874880"/>
            <a:chExt cx="582480" cy="331560"/>
          </a:xfrm>
        </p:grpSpPr>
        <p:sp>
          <p:nvSpPr>
            <p:cNvPr id="140" name=""/>
            <p:cNvSpPr/>
            <p:nvPr/>
          </p:nvSpPr>
          <p:spPr>
            <a:xfrm>
              <a:off x="3624480" y="20390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77280" y="20390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9200" y="2058120"/>
              <a:ext cx="56808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52960" y="21150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71280" y="195516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1680" y="19854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9200" y="19382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89200" y="20912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168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0276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3858120" y="21340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2920" y="1874880"/>
              <a:ext cx="15228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89600" y="18867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390312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381420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hree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320840" y="2246040"/>
            <a:ext cx="133200" cy="630360"/>
            <a:chOff x="1320840" y="2246040"/>
            <a:chExt cx="133200" cy="630360"/>
          </a:xfrm>
        </p:grpSpPr>
        <p:sp>
          <p:nvSpPr>
            <p:cNvPr id="157" name=""/>
            <p:cNvSpPr/>
            <p:nvPr/>
          </p:nvSpPr>
          <p:spPr>
            <a:xfrm flipH="1" rot="5400000">
              <a:off x="1253160" y="231336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320840" y="224640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76760" y="2908440"/>
            <a:ext cx="61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 #1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70360" y="4113000"/>
            <a:ext cx="133200" cy="630360"/>
            <a:chOff x="3870360" y="4113000"/>
            <a:chExt cx="133200" cy="630360"/>
          </a:xfrm>
        </p:grpSpPr>
        <p:sp>
          <p:nvSpPr>
            <p:cNvPr id="161" name=""/>
            <p:cNvSpPr/>
            <p:nvPr/>
          </p:nvSpPr>
          <p:spPr>
            <a:xfrm flipH="1" rot="5400000">
              <a:off x="3802680" y="418032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870360" y="41133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27640" y="4826160"/>
            <a:ext cx="61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 #1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6520" y="5549760"/>
            <a:ext cx="67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6 SWEEPS –5.4 m MOVEUP BETWEEN 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4m Total drag length from Start of last vibes pad to end of first vibes 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6053040" y="1887480"/>
            <a:ext cx="582480" cy="331560"/>
            <a:chOff x="6053040" y="1887480"/>
            <a:chExt cx="582480" cy="331560"/>
          </a:xfrm>
        </p:grpSpPr>
        <p:sp>
          <p:nvSpPr>
            <p:cNvPr id="166" name=""/>
            <p:cNvSpPr/>
            <p:nvPr/>
          </p:nvSpPr>
          <p:spPr>
            <a:xfrm>
              <a:off x="6088320" y="20516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41120" y="20516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53040" y="2070720"/>
              <a:ext cx="56808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16800" y="21276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35120" y="196776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75520" y="19980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53040" y="19508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3040" y="21038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75520" y="19364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66600" y="19364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6321960" y="21466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6760" y="1887480"/>
              <a:ext cx="15228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440" y="18993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6366960" y="19065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6278040" y="19065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33480" y="220032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6400" y="1562040"/>
            <a:ext cx="343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2880" y="1424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29280" y="1436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1440" y="13240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1 Meters Between V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15040" y="221292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75360" y="156204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144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61240" y="1436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5440" y="311148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0280" y="30988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35440" y="2284200"/>
            <a:ext cx="133200" cy="630360"/>
            <a:chOff x="3835440" y="2284200"/>
            <a:chExt cx="133200" cy="630360"/>
          </a:xfrm>
        </p:grpSpPr>
        <p:sp>
          <p:nvSpPr>
            <p:cNvPr id="193" name=""/>
            <p:cNvSpPr/>
            <p:nvPr/>
          </p:nvSpPr>
          <p:spPr>
            <a:xfrm flipH="1" rot="5400000">
              <a:off x="3767760" y="235152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835440" y="22845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8315280" y="2296800"/>
            <a:ext cx="133200" cy="630360"/>
            <a:chOff x="8315280" y="2296800"/>
            <a:chExt cx="133200" cy="630360"/>
          </a:xfrm>
        </p:grpSpPr>
        <p:sp>
          <p:nvSpPr>
            <p:cNvPr id="196" name=""/>
            <p:cNvSpPr/>
            <p:nvPr/>
          </p:nvSpPr>
          <p:spPr>
            <a:xfrm flipH="1" rot="5400000">
              <a:off x="8247600" y="236412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315280" y="22971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11440" y="294156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 #1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65920" y="2932200"/>
            <a:ext cx="9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#1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3040" y="5033520"/>
            <a:ext cx="133200" cy="630360"/>
            <a:chOff x="3083040" y="5033520"/>
            <a:chExt cx="133200" cy="630360"/>
          </a:xfrm>
        </p:grpSpPr>
        <p:sp>
          <p:nvSpPr>
            <p:cNvPr id="202" name=""/>
            <p:cNvSpPr/>
            <p:nvPr/>
          </p:nvSpPr>
          <p:spPr>
            <a:xfrm flipH="1" rot="5400000">
              <a:off x="3015360" y="510084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083040" y="503388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207120" y="5033520"/>
            <a:ext cx="133200" cy="630360"/>
            <a:chOff x="6207120" y="5033520"/>
            <a:chExt cx="133200" cy="6303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6139440" y="510084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207120" y="503388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727360" y="5732640"/>
            <a:ext cx="64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 # 1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56920" y="5732640"/>
            <a:ext cx="58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#1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05640" y="458460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97080" y="5661000"/>
            <a:ext cx="3121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31080" y="5327640"/>
            <a:ext cx="84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60 me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48520" y="1903320"/>
            <a:ext cx="582480" cy="331560"/>
            <a:chOff x="8048520" y="1903320"/>
            <a:chExt cx="582480" cy="331560"/>
          </a:xfrm>
        </p:grpSpPr>
        <p:sp>
          <p:nvSpPr>
            <p:cNvPr id="214" name=""/>
            <p:cNvSpPr/>
            <p:nvPr/>
          </p:nvSpPr>
          <p:spPr>
            <a:xfrm>
              <a:off x="8083800" y="206748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36600" y="206748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48520" y="2086560"/>
              <a:ext cx="56808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2280" y="214344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30600" y="198360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71000" y="201384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48520" y="196668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48520" y="211968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71000" y="19522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62080" y="19522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8317440" y="216252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72240" y="1903320"/>
              <a:ext cx="15228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548920" y="191520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8362440" y="19224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8273520" y="19224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373880" y="1900080"/>
            <a:ext cx="582480" cy="331560"/>
            <a:chOff x="7373880" y="1900080"/>
            <a:chExt cx="582480" cy="331560"/>
          </a:xfrm>
        </p:grpSpPr>
        <p:sp>
          <p:nvSpPr>
            <p:cNvPr id="230" name=""/>
            <p:cNvSpPr/>
            <p:nvPr/>
          </p:nvSpPr>
          <p:spPr>
            <a:xfrm>
              <a:off x="7409160" y="20642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61960" y="20642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73880" y="2083320"/>
              <a:ext cx="56808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37640" y="21402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55960" y="198036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96360" y="20106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73880" y="19634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73880" y="21164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96360" y="19490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87440" y="19490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7642800" y="21592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97600" y="1900080"/>
              <a:ext cx="15228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74280" y="19119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7687800" y="19191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7598880" y="19191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582560" y="1862280"/>
            <a:ext cx="582480" cy="331200"/>
            <a:chOff x="1582560" y="1862280"/>
            <a:chExt cx="582480" cy="331200"/>
          </a:xfrm>
        </p:grpSpPr>
        <p:sp>
          <p:nvSpPr>
            <p:cNvPr id="246" name=""/>
            <p:cNvSpPr/>
            <p:nvPr/>
          </p:nvSpPr>
          <p:spPr>
            <a:xfrm>
              <a:off x="1617840" y="202608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70640" y="202608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82560" y="2045160"/>
              <a:ext cx="568080" cy="6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46320" y="210204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64640" y="194220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05040" y="19728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82560" y="19256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2560" y="20786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05040" y="1911240"/>
              <a:ext cx="20880" cy="25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96120" y="1911240"/>
              <a:ext cx="20880" cy="25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1851480" y="212112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06280" y="1862280"/>
              <a:ext cx="152280" cy="19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82960" y="18741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1896480" y="18813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1807560" y="18813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230560" y="1874880"/>
            <a:ext cx="582120" cy="331560"/>
            <a:chOff x="2230560" y="1874880"/>
            <a:chExt cx="582120" cy="331560"/>
          </a:xfrm>
        </p:grpSpPr>
        <p:sp>
          <p:nvSpPr>
            <p:cNvPr id="262" name=""/>
            <p:cNvSpPr/>
            <p:nvPr/>
          </p:nvSpPr>
          <p:spPr>
            <a:xfrm>
              <a:off x="2265840" y="20390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18280" y="20390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30560" y="205812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93960" y="21150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2640" y="195516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52680" y="19854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30560" y="19382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30560" y="20912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5268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4412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499480" y="21340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53920" y="187488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0600" y="18867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254448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245556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878200" y="1874880"/>
            <a:ext cx="582120" cy="331560"/>
            <a:chOff x="2878200" y="1874880"/>
            <a:chExt cx="582120" cy="331560"/>
          </a:xfrm>
        </p:grpSpPr>
        <p:sp>
          <p:nvSpPr>
            <p:cNvPr id="278" name=""/>
            <p:cNvSpPr/>
            <p:nvPr/>
          </p:nvSpPr>
          <p:spPr>
            <a:xfrm>
              <a:off x="2913480" y="20390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65920" y="20390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78200" y="205812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41600" y="21150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60280" y="195516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0320" y="19854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78200" y="19382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78200" y="20912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032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9176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3147120" y="21340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01560" y="187488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78240" y="18867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319212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310320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551400" y="1862280"/>
            <a:ext cx="582120" cy="331200"/>
            <a:chOff x="3551400" y="1862280"/>
            <a:chExt cx="582120" cy="331200"/>
          </a:xfrm>
        </p:grpSpPr>
        <p:sp>
          <p:nvSpPr>
            <p:cNvPr id="294" name=""/>
            <p:cNvSpPr/>
            <p:nvPr/>
          </p:nvSpPr>
          <p:spPr>
            <a:xfrm>
              <a:off x="3586680" y="202608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39120" y="202608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51400" y="2045160"/>
              <a:ext cx="567720" cy="6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14800" y="210204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33480" y="194220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73520" y="19728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51400" y="19256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1400" y="20786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3520" y="1911240"/>
              <a:ext cx="20880" cy="25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64960" y="1911240"/>
              <a:ext cx="20880" cy="25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820320" y="212112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74760" y="1862280"/>
              <a:ext cx="151920" cy="19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1440" y="18741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3865320" y="18813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3776400" y="18813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726240" y="1887480"/>
            <a:ext cx="582120" cy="331560"/>
            <a:chOff x="6726240" y="1887480"/>
            <a:chExt cx="582120" cy="331560"/>
          </a:xfrm>
        </p:grpSpPr>
        <p:sp>
          <p:nvSpPr>
            <p:cNvPr id="310" name=""/>
            <p:cNvSpPr/>
            <p:nvPr/>
          </p:nvSpPr>
          <p:spPr>
            <a:xfrm>
              <a:off x="6761520" y="20516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13960" y="20516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26240" y="207072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89640" y="21276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08320" y="196776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48360" y="19980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26240" y="19508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26240" y="21038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48360" y="19364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39800" y="19364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6995160" y="21466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9600" y="188748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26280" y="18993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7040160" y="19065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6951240" y="19065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035600" y="1054080"/>
            <a:ext cx="11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our Vibes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280" y="2273400"/>
            <a:ext cx="30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7 Meters from pad of vibe 1 to pad of vibe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Darryl</cp:lastModifiedBy>
  <dcterms:modified xsi:type="dcterms:W3CDTF">2004-07-19T19:00:25Z</dcterms:modified>
  <cp:revision>29</cp:revision>
  <dc:subject/>
  <dc:title>No Slide Title</dc:title>
</cp:coreProperties>
</file>