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D03-6376-4B8D-B200-A761524E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64F-7B16-4541-8496-7B16CC86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91C-920F-4559-97DE-02007DBA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0D1-9F2C-483F-B22C-340A3223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CA8-7321-4060-991E-90FBC71D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74B-C8C6-4C80-84B3-5C638C02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5E9-88EB-41C5-8774-05CC9BA7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2585-A305-474F-9AA2-7486462F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B97-A243-4685-B1C3-4622C53F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AB6-59E5-424C-B9ED-C824DE12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871C-C91F-4BA3-B9E5-3510D151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B57-8FB6-468C-B71D-AF37F2E3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CB55-5A1F-4CCE-A9CC-B921BF32C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54360" y="3043080"/>
            <a:ext cx="582480" cy="331560"/>
            <a:chOff x="4554360" y="30430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589640" y="32072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2440" y="32072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54360" y="32263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118120" y="32832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36440" y="31233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776840" y="31536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54360" y="31064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54360" y="32594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76840" y="30920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67920" y="30920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4823280" y="33022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78080" y="30430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54760" y="30549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4868280" y="30621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4779360" y="30621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835280" y="1692360"/>
            <a:ext cx="329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86160" y="336852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2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5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V.P.  DRAG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Last pad start to first pad 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, 4.5 meter move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6080" y="5378400"/>
            <a:ext cx="7308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18 meter drag length from start position of second vibes pad to finishing pad position of the first vi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817800" y="1353960"/>
            <a:ext cx="582480" cy="331560"/>
            <a:chOff x="3817800" y="1353960"/>
            <a:chExt cx="582480" cy="331560"/>
          </a:xfrm>
        </p:grpSpPr>
        <p:sp>
          <p:nvSpPr>
            <p:cNvPr id="74" name=""/>
            <p:cNvSpPr/>
            <p:nvPr/>
          </p:nvSpPr>
          <p:spPr>
            <a:xfrm>
              <a:off x="3853080" y="15181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05880" y="15181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17800" y="153720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81560" y="15940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9880" y="143424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40280" y="146448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17800" y="141732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17800" y="157032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40280" y="14029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31360" y="14029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4086720" y="16131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41520" y="135396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8200" y="136584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131720" y="13730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4042800" y="13730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491000" y="1366920"/>
            <a:ext cx="582120" cy="331200"/>
            <a:chOff x="4491000" y="1366920"/>
            <a:chExt cx="582120" cy="331200"/>
          </a:xfrm>
        </p:grpSpPr>
        <p:sp>
          <p:nvSpPr>
            <p:cNvPr id="90" name=""/>
            <p:cNvSpPr/>
            <p:nvPr/>
          </p:nvSpPr>
          <p:spPr>
            <a:xfrm>
              <a:off x="452628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7872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9100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5440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308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1312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100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100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1312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045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75992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1436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9104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80492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71600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189400" y="3017880"/>
            <a:ext cx="582480" cy="331560"/>
            <a:chOff x="5189400" y="30178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5224680" y="31820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77480" y="31820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400" y="32011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53160" y="32580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71480" y="30981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11880" y="31284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9400" y="30812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9400" y="32342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11880" y="30668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02960" y="30668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5458320" y="32770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13120" y="30178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89800" y="30297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5503320" y="30369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5414400" y="30369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Darryl</cp:lastModifiedBy>
  <dcterms:modified xsi:type="dcterms:W3CDTF">2004-06-21T14:30:29Z</dcterms:modified>
  <cp:revision>28</cp:revision>
  <dc:subject/>
  <dc:title>No Slide Title</dc:title>
</cp:coreProperties>
</file>