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C75-3D65-463B-93EB-BDC84CB4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1524-2E1B-432A-8A16-8C4B064B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097-64BC-4061-817D-73F6AE1C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977F-AE5D-4AE9-A7F2-78CCBBF9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775-AF4E-4168-AE84-0C93E0D7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53F-5FFF-47E1-89BC-FF0AF1B1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F4A-61A5-41C3-8021-6BE52524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4D31-399C-4300-A32F-74FEB617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014-970E-47B2-B5B1-E4B35BDF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588-1C6A-4B7D-81AD-82E6F5AF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3DC-4597-4C04-B00B-DDC401C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CAC-1FC0-4EEE-BE05-A749A9ED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9C28-C5E1-4772-95B3-24D4921C0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 sweeps when on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pavement moving up .5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&amp; AIR Gun 4 Blasts p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T2</cp:lastModifiedBy>
  <dcterms:modified xsi:type="dcterms:W3CDTF">2007-10-01T18:09:41Z</dcterms:modified>
  <cp:revision>35</cp:revision>
  <dc:subject/>
  <dc:title>No Slide Title</dc:title>
</cp:coreProperties>
</file>