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4EB-D602-4308-89C7-78D7DDB8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E29-7CAA-4EDE-94F7-2B9185AE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2B91-727A-4DF6-AB93-65083F57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6BE-25C2-42B9-A1E5-3C270573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597-C858-4420-AE76-51BCDF3C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48CA-99AF-4320-9D9F-506E39BC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388-3984-4E51-A53A-780C612B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8203-6C65-46DB-B925-45DECCD2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A9B-E6D1-4A66-B709-3EEEE8AD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203B-532D-40BF-8266-5F8F2C6D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4B1-0381-44F0-AFA4-306E62FE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98C6-F2CD-4C10-8E89-895F2330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5C43-1FD5-4EAC-A735-02CFDE978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859280" y="3030480"/>
            <a:ext cx="582480" cy="331560"/>
            <a:chOff x="4859280" y="30304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89456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24736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5928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2304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136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08176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5928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5928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08176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7284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512820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8300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968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517320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508428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321000" y="3381480"/>
            <a:ext cx="327348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1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4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c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 vibes centered over sh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211640" y="1366920"/>
            <a:ext cx="582120" cy="331200"/>
            <a:chOff x="4211640" y="1366920"/>
            <a:chExt cx="582120" cy="331200"/>
          </a:xfrm>
        </p:grpSpPr>
        <p:sp>
          <p:nvSpPr>
            <p:cNvPr id="73" name=""/>
            <p:cNvSpPr/>
            <p:nvPr/>
          </p:nvSpPr>
          <p:spPr>
            <a:xfrm>
              <a:off x="424692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59936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164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77504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9372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3376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164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164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337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520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448056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500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1168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452556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43664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57640" y="171756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834080" y="1379520"/>
            <a:ext cx="582120" cy="331560"/>
            <a:chOff x="4834080" y="1379520"/>
            <a:chExt cx="582120" cy="331560"/>
          </a:xfrm>
        </p:grpSpPr>
        <p:sp>
          <p:nvSpPr>
            <p:cNvPr id="90" name=""/>
            <p:cNvSpPr/>
            <p:nvPr/>
          </p:nvSpPr>
          <p:spPr>
            <a:xfrm>
              <a:off x="4869360" y="154368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21800" y="154368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34080" y="1562760"/>
              <a:ext cx="56772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97480" y="161964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16160" y="145980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56200" y="14900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34080" y="14428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4080" y="15958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5620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47640" y="142848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5103000" y="163872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57440" y="1379520"/>
              <a:ext cx="15192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13914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514800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059080" y="13986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224240" y="3030480"/>
            <a:ext cx="582480" cy="331560"/>
            <a:chOff x="4224240" y="30304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4259520" y="31946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2320" y="31946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24240" y="32137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788000" y="32706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06320" y="31107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46720" y="31410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24240" y="30938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24240" y="32468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4672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37800" y="30794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4493160" y="32896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7960" y="30304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640" y="30423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53816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449240" y="30495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V2operator</cp:lastModifiedBy>
  <dcterms:modified xsi:type="dcterms:W3CDTF">2007-06-08T08:09:26Z</dcterms:modified>
  <cp:revision>32</cp:revision>
  <dc:subject/>
  <dc:title>No Slide Title</dc:title>
</cp:coreProperties>
</file>