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99F-4E76-4112-9AD5-3CEA1BFF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01A-F514-4E60-9732-6004E6C7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FCD-F296-4538-B02D-0B2E4A47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3F9-062B-4D58-8208-8739B7E5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DE10-578C-4343-9C3D-43DFA66B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6677-2BBE-4520-9DBF-2EBD4727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3C1E-97F6-47B4-9569-47B70766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CEF-3665-4C5A-BBFB-92D97C9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42F9-F3B0-45F8-A786-DA476F3C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98D-1600-45C5-8535-5B32B47C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68AE-DEF2-4D88-A085-EEF6F4F5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FC3-576E-4B9D-B3FD-B3A90349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905E-29D4-4388-A6D6-0C327FEB7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73760" y="3005280"/>
            <a:ext cx="582120" cy="331200"/>
            <a:chOff x="4973760" y="3005280"/>
            <a:chExt cx="582120" cy="331200"/>
          </a:xfrm>
        </p:grpSpPr>
        <p:sp>
          <p:nvSpPr>
            <p:cNvPr id="42" name=""/>
            <p:cNvSpPr/>
            <p:nvPr/>
          </p:nvSpPr>
          <p:spPr>
            <a:xfrm>
              <a:off x="5009040" y="31690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61480" y="31690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73760" y="318816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37160" y="32450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55840" y="30852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195880" y="31158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73760" y="30686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73760" y="32216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9588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87320" y="305424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242680" y="32641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7120" y="300528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73800" y="30171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28768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198760" y="30243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Drag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 first vibes back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 meter move u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ending on second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ront ti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970440" y="1392120"/>
            <a:ext cx="582120" cy="331560"/>
            <a:chOff x="3970440" y="1392120"/>
            <a:chExt cx="582120" cy="331560"/>
          </a:xfrm>
        </p:grpSpPr>
        <p:sp>
          <p:nvSpPr>
            <p:cNvPr id="73" name=""/>
            <p:cNvSpPr/>
            <p:nvPr/>
          </p:nvSpPr>
          <p:spPr>
            <a:xfrm>
              <a:off x="4005720" y="15562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58160" y="15562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70440" y="15753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3840" y="16322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2520" y="14724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92560" y="15026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70440" y="14554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0440" y="16084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9256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84000" y="14410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239360" y="16513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93800" y="13921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70480" y="14040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28436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95440" y="14112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18080" y="1366920"/>
            <a:ext cx="582120" cy="331200"/>
            <a:chOff x="461808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65336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0580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1808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148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016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4020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808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1808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840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164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88700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4144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1812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32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84308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351320" y="3030480"/>
            <a:ext cx="582120" cy="331560"/>
            <a:chOff x="4351320" y="3030480"/>
            <a:chExt cx="582120" cy="331560"/>
          </a:xfrm>
        </p:grpSpPr>
        <p:sp>
          <p:nvSpPr>
            <p:cNvPr id="106" name=""/>
            <p:cNvSpPr/>
            <p:nvPr/>
          </p:nvSpPr>
          <p:spPr>
            <a:xfrm>
              <a:off x="438660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3904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51320" y="321372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1472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33400" y="311076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344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5132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5132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34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6488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62024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74680" y="303048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5136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665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57632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14:22Z</dcterms:modified>
  <cp:revision>33</cp:revision>
  <dc:subject/>
  <dc:title>No Slide Title</dc:title>
</cp:coreProperties>
</file>