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C8B-85FD-49F2-92E3-C56A547D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9D6-374A-4DB2-91E9-8B7B7575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772-06A1-439C-9A83-A26C20AA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1A0-3DD9-497D-81BA-13E11C88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27B-A1A7-4A10-88EC-20FDF01C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305-B253-4FFF-A4BF-EAC977CF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944-CFE6-403D-9EDB-6B3105B0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388-9C31-4CB3-9994-48319898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D9B-EE73-4227-BA05-27DBC8FF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E62-2214-4669-A690-139B0884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B95-C4ED-4BFA-ACC1-221A1F33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941-B45F-4374-B583-7D29361B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084C-D21D-4723-9379-846A398C7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73760" y="3005280"/>
            <a:ext cx="582120" cy="331200"/>
            <a:chOff x="4973760" y="3005280"/>
            <a:chExt cx="582120" cy="331200"/>
          </a:xfrm>
        </p:grpSpPr>
        <p:sp>
          <p:nvSpPr>
            <p:cNvPr id="42" name=""/>
            <p:cNvSpPr/>
            <p:nvPr/>
          </p:nvSpPr>
          <p:spPr>
            <a:xfrm>
              <a:off x="5009040" y="31690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1480" y="31690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73760" y="318816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37160" y="32450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55840" y="30852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5880" y="31158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3760" y="30686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760" y="32216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588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8732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242680" y="32641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7120" y="300528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3800" y="30171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28768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19876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ra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 first vibes back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ing on second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ront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70440" y="1392120"/>
            <a:ext cx="582120" cy="331560"/>
            <a:chOff x="3970440" y="1392120"/>
            <a:chExt cx="582120" cy="331560"/>
          </a:xfrm>
        </p:grpSpPr>
        <p:sp>
          <p:nvSpPr>
            <p:cNvPr id="73" name=""/>
            <p:cNvSpPr/>
            <p:nvPr/>
          </p:nvSpPr>
          <p:spPr>
            <a:xfrm>
              <a:off x="4005720" y="15562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8160" y="15562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0440" y="15753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6322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2520" y="14724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2560" y="15026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70440" y="14554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0440" y="16084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256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400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239360" y="16513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3800" y="13921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70480" y="14040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28436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9544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18080" y="1366920"/>
            <a:ext cx="582120" cy="331200"/>
            <a:chOff x="461808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65336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0580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808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016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020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808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808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0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164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88700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4144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1812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32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84308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51320" y="3030480"/>
            <a:ext cx="582120" cy="331560"/>
            <a:chOff x="4351320" y="3030480"/>
            <a:chExt cx="582120" cy="331560"/>
          </a:xfrm>
        </p:grpSpPr>
        <p:sp>
          <p:nvSpPr>
            <p:cNvPr id="106" name=""/>
            <p:cNvSpPr/>
            <p:nvPr/>
          </p:nvSpPr>
          <p:spPr>
            <a:xfrm>
              <a:off x="438660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1320" y="32137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472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3400" y="31107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344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132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34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488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62024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4680" y="30304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136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665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57632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14:22Z</dcterms:modified>
  <cp:revision>33</cp:revision>
  <dc:subject/>
  <dc:title>No Slide Title</dc:title>
</cp:coreProperties>
</file>