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153E-8C29-404F-B982-A11C40B1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42EE-2042-4556-8539-14200BF3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A0B4-D713-4249-BC15-25F28309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AD5-A79C-4FFA-8C2F-59D152E4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E14C-1E42-40B8-87E6-069F0F41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8AFE-C5BA-4138-9236-604390E4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5BEC-0548-4C0A-98D0-B453D5E6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2C1-D43A-4233-B30E-52D997BD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D73-D0EF-4EA8-BE4D-469B69D9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74B-1697-47C6-82CE-81B493E6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2FE-B241-4AE1-914E-AE5F3BC1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3A9-8F86-4DD3-82C3-8FCF518E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5887-C5F6-4748-9C7A-851A78EE2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59280" y="3030480"/>
            <a:ext cx="582480" cy="331560"/>
            <a:chOff x="4859280" y="30304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89456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4736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5928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304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136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176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928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928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176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728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12820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8300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968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7320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8428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 vibes centered ov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Air gun 4 pops p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211640" y="1366920"/>
            <a:ext cx="582120" cy="331200"/>
            <a:chOff x="4211640" y="1366920"/>
            <a:chExt cx="582120" cy="331200"/>
          </a:xfrm>
        </p:grpSpPr>
        <p:sp>
          <p:nvSpPr>
            <p:cNvPr id="73" name=""/>
            <p:cNvSpPr/>
            <p:nvPr/>
          </p:nvSpPr>
          <p:spPr>
            <a:xfrm>
              <a:off x="424692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936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164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504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9372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376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164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37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5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48056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500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168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2556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43664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834080" y="1379520"/>
            <a:ext cx="582120" cy="331560"/>
            <a:chOff x="4834080" y="1379520"/>
            <a:chExt cx="582120" cy="331560"/>
          </a:xfrm>
        </p:grpSpPr>
        <p:sp>
          <p:nvSpPr>
            <p:cNvPr id="90" name=""/>
            <p:cNvSpPr/>
            <p:nvPr/>
          </p:nvSpPr>
          <p:spPr>
            <a:xfrm>
              <a:off x="4869360" y="15436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1800" y="15436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34080" y="15627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7480" y="16196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6160" y="14598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6200" y="14900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4080" y="14428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4080" y="15958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5620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764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103000" y="16387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3795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13914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14800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05908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24240" y="3030480"/>
            <a:ext cx="582480" cy="331560"/>
            <a:chOff x="4224240" y="30304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425952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232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424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800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632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72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424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24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780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49316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796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64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53816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449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T2</cp:lastModifiedBy>
  <dcterms:modified xsi:type="dcterms:W3CDTF">2007-09-30T17:49:14Z</dcterms:modified>
  <cp:revision>33</cp:revision>
  <dc:subject/>
  <dc:title>No Slide Title</dc:title>
</cp:coreProperties>
</file>