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BD5-DBA9-4460-9DF8-5DB20C10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03E-D3A2-4736-8A69-3B255CF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0EF-F68F-40F2-A077-4CC35DC1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07E-1E61-49E9-83CA-CF0CB81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68D-7283-4892-9E99-1328E0A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B7B-B4ED-4987-89D0-9EB2257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4A7-006D-40DE-974F-76B5F42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BFD-AD55-4A05-997D-C943863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D6F-979B-4F3E-90F2-9B365F8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66F-3A76-4D71-9488-86C9C7C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950-3449-41E6-9A67-84BB9C1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487-64DA-424F-8F68-7BF920A4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92F-A9D5-4B07-8155-7B57CD81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ir gun 4 pop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10-08T23:21:42Z</dcterms:modified>
  <cp:revision>33</cp:revision>
  <dc:subject/>
  <dc:title>No Slide Title</dc:title>
</cp:coreProperties>
</file>