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B33-2832-4156-929B-81F1B53C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F18-9DF8-4FF0-8E83-B6D39390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3B3-26A1-4EE6-9817-728C2D6E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C56-EA64-4655-86F0-6100072C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6E0-3653-4BAC-A3AE-61F3A4D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F51-4691-4693-9397-638678EB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CF7-D5B8-44AC-917C-6A3B9FF6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123-BCD4-45BF-98C1-E6DF4506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959-3B41-4A2B-9F8E-8CECCA51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42F-C815-4E5E-A254-346C1C3E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690-0ACB-4A87-A5A9-3F0C0D6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104-BD3F-4AA6-8442-C972FEC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8F32-2AE1-4938-B2FD-08A0F78B5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08520" y="3043080"/>
            <a:ext cx="582120" cy="331560"/>
            <a:chOff x="4808520" y="3043080"/>
            <a:chExt cx="582120" cy="331560"/>
          </a:xfrm>
        </p:grpSpPr>
        <p:sp>
          <p:nvSpPr>
            <p:cNvPr id="42" name=""/>
            <p:cNvSpPr/>
            <p:nvPr/>
          </p:nvSpPr>
          <p:spPr>
            <a:xfrm>
              <a:off x="484380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962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8520" y="32263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719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90600" y="31233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306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852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852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306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2208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07744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1880" y="30430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085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2244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3352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ad 2 meters before 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ending 2 meters after flag sweep three                            on 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 METER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NE V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211640" y="1341360"/>
            <a:ext cx="582120" cy="331560"/>
            <a:chOff x="4211640" y="1341360"/>
            <a:chExt cx="582120" cy="331560"/>
          </a:xfrm>
        </p:grpSpPr>
        <p:sp>
          <p:nvSpPr>
            <p:cNvPr id="74" name=""/>
            <p:cNvSpPr/>
            <p:nvPr/>
          </p:nvSpPr>
          <p:spPr>
            <a:xfrm>
              <a:off x="4246920" y="15055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99360" y="15055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11640" y="152460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75040" y="15814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93720" y="14216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33760" y="14518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4047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11640" y="15577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33760" y="13903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25200" y="13903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480560" y="16005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5000" y="134136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11680" y="13532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525560" y="13604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436640" y="13604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5:02Z</dcterms:modified>
  <cp:revision>31</cp:revision>
  <dc:subject/>
  <dc:title>No Slide Title</dc:title>
</cp:coreProperties>
</file>