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B4E-9FC2-4238-BE9D-770EEB8F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36E-595F-4CDF-8134-A2200787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27E-AB36-4994-B564-4098B838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AE7-F583-48BB-8EB4-7E9FF752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9D02-143E-44C0-AF77-5657D060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C351-56A5-4419-AEBB-DFB3AF15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BC41-43FF-4D9E-8C2B-60CBD3A2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4F83-E854-4259-825F-D60AFF5B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C1F-2DC0-41CA-9CFA-FDE84145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DC9E-3798-4289-A5B5-E91AB399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BCA-E8BB-4E6A-8909-09121318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AC7-FDF3-4766-8105-613BC27C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B2CD-45F1-40B8-8C64-B43381D35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973760" y="3005280"/>
            <a:ext cx="582120" cy="331200"/>
            <a:chOff x="4973760" y="3005280"/>
            <a:chExt cx="582120" cy="331200"/>
          </a:xfrm>
        </p:grpSpPr>
        <p:sp>
          <p:nvSpPr>
            <p:cNvPr id="42" name=""/>
            <p:cNvSpPr/>
            <p:nvPr/>
          </p:nvSpPr>
          <p:spPr>
            <a:xfrm>
              <a:off x="5009040" y="31690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61480" y="31690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73760" y="318816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37160" y="32450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55840" y="30852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95880" y="31158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73760" y="30686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73760" y="32216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95880" y="305424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87320" y="305424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242680" y="32641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97120" y="300528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73800" y="30171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287680" y="30243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198760" y="30243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Drag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 first vibes back t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 meter move 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ending on second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ront t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70440" y="1392120"/>
            <a:ext cx="582120" cy="331560"/>
            <a:chOff x="3970440" y="1392120"/>
            <a:chExt cx="582120" cy="331560"/>
          </a:xfrm>
        </p:grpSpPr>
        <p:sp>
          <p:nvSpPr>
            <p:cNvPr id="73" name=""/>
            <p:cNvSpPr/>
            <p:nvPr/>
          </p:nvSpPr>
          <p:spPr>
            <a:xfrm>
              <a:off x="4005720" y="15562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8160" y="15562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70440" y="15753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33840" y="16322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52520" y="14724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92560" y="15026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70440" y="14554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70440" y="16084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92560" y="14410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84000" y="14410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239360" y="16513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93800" y="13921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70480" y="14040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284360" y="14112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195440" y="14112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618080" y="1366920"/>
            <a:ext cx="582120" cy="331200"/>
            <a:chOff x="4618080" y="1366920"/>
            <a:chExt cx="582120" cy="331200"/>
          </a:xfrm>
        </p:grpSpPr>
        <p:sp>
          <p:nvSpPr>
            <p:cNvPr id="90" name=""/>
            <p:cNvSpPr/>
            <p:nvPr/>
          </p:nvSpPr>
          <p:spPr>
            <a:xfrm>
              <a:off x="465336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0580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1808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148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0016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4020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808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1808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40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3164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488700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4144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1812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493200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84308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351320" y="3030480"/>
            <a:ext cx="582120" cy="331560"/>
            <a:chOff x="4351320" y="3030480"/>
            <a:chExt cx="582120" cy="331560"/>
          </a:xfrm>
        </p:grpSpPr>
        <p:sp>
          <p:nvSpPr>
            <p:cNvPr id="106" name=""/>
            <p:cNvSpPr/>
            <p:nvPr/>
          </p:nvSpPr>
          <p:spPr>
            <a:xfrm>
              <a:off x="438660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3904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51320" y="321372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1472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33400" y="311076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344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5132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5132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34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6488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62024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74680" y="303048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5136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665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57632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14:22Z</dcterms:modified>
  <cp:revision>33</cp:revision>
  <dc:subject/>
  <dc:title>No Slide Title</dc:title>
</cp:coreProperties>
</file>